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gif" ContentType="image/gif"/>
  <Override PartName="/ppt/media/image9.gif" ContentType="image/gif"/>
  <Override PartName="/ppt/media/image6.jpeg" ContentType="image/jpeg"/>
  <Override PartName="/ppt/media/image11.gif" ContentType="image/gif"/>
  <Override PartName="/ppt/media/image5.jpeg" ContentType="image/jpeg"/>
  <Override PartName="/ppt/media/image26.jpeg" ContentType="image/jpeg"/>
  <Override PartName="/ppt/media/image13.gif" ContentType="image/gif"/>
  <Override PartName="/ppt/media/image16.png" ContentType="image/png"/>
  <Override PartName="/ppt/media/image8.gif" ContentType="image/gif"/>
  <Override PartName="/ppt/media/image4.jpeg" ContentType="image/jpeg"/>
  <Override PartName="/ppt/media/image25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14.gif" ContentType="image/gif"/>
  <Override PartName="/ppt/media/image24.png" ContentType="image/png"/>
  <Override PartName="/ppt/media/image19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2.gif" ContentType="image/gif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F821-E3FB-4F30-804B-A8BEF90A43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ular Transport N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. 7.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ular Transport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usion: random movement of particles from an area of high concentration to an area of low concentra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High to Low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usion continues until all molecules are evenly spaced (equilibrium is reached)-Note: molecules will still move around but stay spread ou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bio.winona.edu/berg/Free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ple Diffusion Ani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: random movement of particles from an area of high concentration to an area of low concent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 to L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continues until all molecules are evenly spaced (equilibrium is reached)-Note: molecules will still move around but stay sprea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bio.winona.edu/berg/Fre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Diffusion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Facilitated diffusion: diffusion of specific particles through transport proteins found in the membran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 Proteins are specific – they “select” only certain molecules  to cross the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s larger or charged 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ilitated diffusion (Channel Protei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usion (Lipid Bilay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Facilitated 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rier Prote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bio.winona.edu/berg/Free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Facilitated diffusion: diffusion of specific particles through transport proteins found in the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 Proteins are specific – they “select” only certain molecules  to cross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s larger or charged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ed diffusion (Channel Prote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(Lipid Bilay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bio.winona.edu/berg/Fre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igh Concent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ow Concent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ssive Transport:  2. Facilitated 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nsport Prote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rough a 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ular Transport From a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nnel Proteins anim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w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ssive Transport:  2. 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port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ough a 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ular Transport From a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nnel Proteins 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Osmosis:  diffusion of water through a selectively permeable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moves from high to low concent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moves freely through po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e (green) to large to move acros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ani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Osm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Osmosis:  diffusion of water through a selectively permeabl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moves from high to low concen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moves freely through p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e (green) to large to move acro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Osm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uses energ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ely moves molecules to where they are need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ment  from an area of low concentration to an area of high concentra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Low  High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ree Typ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uses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ly moves molecules to where they are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  from an area of low concentration to an area of high concent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w  Hig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. Protein Pumps -transport proteins that require energy to do 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ample: Sodium / Potassium Pumps are important in nerve respon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odium Potassium Pumps (Active Transport using protein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 changes shape to move molecules:  this requires energy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Protein Pumps -transport proteins that require energy to do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ample: Sodium / Potassium Pumps are important in nerve respo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Potassium Pumps (Active Transport using protei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 changes shape to move molecules:  this requires energ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Endocytosis:  taking bulky material into a cel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s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membrane in-folds around food parti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eating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s food vacuole &amp; digests f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how white blood cells eat bacteria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Endocytosis:  taking bulky material into a c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in-folds around food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eat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s food vacuole &amp; digests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white blood cells eat bacteri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Exocytosis: Forces material out of cell in bu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brane surrounding the material fuses with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changes shape – requires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Hormones or wastes released from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ocytosis &amp; Exocytosis anim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Exocytosis: Forces material out of cell in bu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 surrounding the material fuses with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changes shape – requires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Hormones or wastes released fro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ytosis &amp; Exocytosis 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ffects of Osmosis on Lif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- diffusion of water through a selectively permeable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is so small and there is so much of it the cell can’t control it’s movement through the cell membra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f Osmosis on Lif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- diffusion of water through a selectively permeabl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is so small and there is so much of it the cell can’t control it’s movement through the cell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otonic S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otonic:  The solution has a lower concentration of solutes and a higher concentration of water than inside the cell. (Low solute; High wa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ult: Water moves from the solution to inside the cell): Cell Swells and bursts open (cytolysis)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on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onic:  The solution has a lower concentration of solutes and a higher concentration of water than inside the cell. (Low solute; High wa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: Water moves from the solution to inside the cell): Cell Swells and bursts open (cytolysis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 Cell Membra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cells have a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nctions: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ls what enters and exits the cell to maintain an internal balance called homeost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des protection and support for th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M picture of a real cell membra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Cell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have a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s what enters and exits the cell to maintain an internal balance called homeo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protection and support for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 picture of a real cell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ertonic S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ertonic:  The solution has a higher concentration of solutes and a lower concentration of water than inside the cell. (High solute; Low wa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ult: Water moves from inside the cell  into the solution:   Cell shrinks (Plasmolysis)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rin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on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onic:  The solution has a higher concentration of solutes and a lower concentration of water than inside the cell. (High solute; Low wa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: Water moves from inside the cell  into the solution:   Cell shrinks (Plasmolysis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r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tonic S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tonic:  The concentration of solutes in the solution is equal to the concentration of solutes inside the cel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ult:  Water moves equally in both directions and the cell remains same size! (Dynamic Equilibriu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ton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tonic:  The concentration of solutes in the solution is equal to the concentration of solutes inside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:  Water moves equally in both directions and the cell remains same size! (Dynamic Equilibr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type of solution are these cells 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erto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to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oto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solution are these cells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t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rganisms Deal with Osmotic Press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mecium (protist) removing excess water 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cteria and plants have cell walls that prevent them from over-expanding. In plants the pressure exerted on the cell wall is called tugor pressur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rotist like paramecium has contractile vacuoles that collect water flowing in and pump it out to prevent them from over-expand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lt water fish pump salt out of their specialized gills so they do not dehydra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cells are bathed in blood. Kidneys keep the blood isotonic by remove excess salt and wa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Organisms Deal with Osmotic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cium (protist) removing excess water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and plants have cell walls that prevent them from over-expanding. In plants the pressure exerted on the cell wall is called tugor press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otist like paramecium has contractile vacuoles that collect water flowing in and pump it out to prevent them from over-expa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 water fish pump salt out of their specialized gills so they do not dehy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cells are bathed in blood. Kidneys keep the blood isotonic by remove excess salt and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ructure of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pid Bilayer -2 layers of phospholipi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osphate head is polar (water lov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atty acid tails non-polar (water fear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s embedded in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bout Cell Membranes (continue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ospholip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pid Bilay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e of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id Bilayer -2 layers of phospholi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ate head is polar (water lov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tty acid tails non-polar (water fea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 embedded in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Cell Membrane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lip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id Bi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mbrane movement ani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olar heads love water &amp; dissolv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on-polar tails hide from wa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hydrate cell mark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luid Mosaic Model of the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mbrane movement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ar heads love water &amp; dis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n-polar tails hide from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hydrate cell ma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id Mosaic Model of the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Cell membranes have pores (holes) in 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lectively permeable:  Allows some molecules in and keeps other molecules 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tructure helps it be selectiv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 Cell Membranes (continue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Cell membranes have pores (holes) i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ly permeable:  Allows some molecules in and keeps other molecules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helps it be selectiv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Cell Membrane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side of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ide of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ytoplas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p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lay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spholipi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hydr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e of the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membrane 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sid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ytoplas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li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embrane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es of Cellular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ssive Transpor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doesn’t use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sm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does use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 Pum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ndocyt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ocyt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imations of Active Transport &amp; Pass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Cellular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ssive Trans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doesn’t use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sm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does use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 Pu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tions of Active Transport &amp; Pass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uses no energ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lecules move random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lecules spread out from an area of high concentration to an area of low concentra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HighLow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ree typ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uses no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s move random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s spread out from an area of high concentration to an area of low concent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L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typ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Types of Pass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us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ilitative Diffusion – diffusion with the help of transport protei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– diffusion of 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Types of Pass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ive Diffusion – diffusion with the help of transport prote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– diffusion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3DAD-2FFB-4C90-986B-462CDB106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9413-8041-4F79-9CEB-B3C38947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6657-2E65-4023-A5AA-29F12B762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C7FB-676D-49FC-8DA6-AB6F22AC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6DA3-E789-4038-A41D-474C68AA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0785-2016-4A14-8687-E2B8D28B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A0B1-BE29-49AA-B8E8-5E91BA66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A9C4-D147-4028-BA7E-875ED7A1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1575-25CE-4BB5-8742-FFAF0C8C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F1D9-9437-412A-A64C-1C28586D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4836-F937-4CAD-9F11-D5C4332F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2BBD-79C7-4BED-883D-D212E352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E678-3C72-4598-ADE3-9A31D3EBD7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hyperlink" Target="http://www.stolaf.edu/people/giannini/flashanimat/transport/diffusion.swf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stolaf.edu/people/giannini/flashanimat/transport/channel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hyperlink" Target="http://www.stolaf.edu/people/giannini/flashanimat/transport/osmosis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tolaf.edu/people/giannini/flashanimat/transport/secondary%20active%20transport.swf" TargetMode="Externa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hyperlink" Target="http://www.stolaf.edu/people/giannini/flashanimat/cellstructures/phagocitosis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hyperlink" Target="http://www.stolaf.edu/people/giannini/flashanimat/lipids/membrane%20fluidity.sw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wisc-online.com/objects/index_tj.asp?objid=AP1101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rograms.northlandcollege.edu/biology/Biology1111/animations/transport1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5715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Cellular Transport Note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1981080"/>
            <a:ext cx="4114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h. 7.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6" descr="membr1"/>
          <p:cNvPicPr/>
          <p:nvPr/>
        </p:nvPicPr>
        <p:blipFill>
          <a:blip r:embed="rId1"/>
          <a:stretch/>
        </p:blipFill>
        <p:spPr>
          <a:xfrm>
            <a:off x="380880" y="2895480"/>
            <a:ext cx="8458200" cy="3481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exocytosis 2"/>
          <p:cNvPicPr/>
          <p:nvPr/>
        </p:nvPicPr>
        <p:blipFill>
          <a:blip r:embed="rId2"/>
          <a:stretch/>
        </p:blipFill>
        <p:spPr>
          <a:xfrm>
            <a:off x="6553080" y="3049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67276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assive Transport: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1. </a:t>
            </a: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Diffus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6130800" cy="525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and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vement of particles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high concentration to an area of low concent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fd03"/>
                </a:solidFill>
                <a:latin typeface="Arial"/>
              </a:rPr>
              <a:t>(</a:t>
            </a:r>
            <a:r>
              <a:rPr b="1" i="1" lang="en-US" sz="3600" spc="-1" strike="noStrike">
                <a:solidFill>
                  <a:srgbClr val="fdfd03"/>
                </a:solidFill>
                <a:latin typeface="Arial"/>
              </a:rPr>
              <a:t>High to Low</a:t>
            </a:r>
            <a:r>
              <a:rPr b="1" lang="en-US" sz="3600" spc="-1" strike="noStrike">
                <a:solidFill>
                  <a:srgbClr val="fdfd03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usion continues until all molecules are evenly spaced (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equilibri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reached)-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t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lecules will still move around but stay spread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5" descr="diffusion-animated"/>
          <p:cNvPicPr/>
          <p:nvPr/>
        </p:nvPicPr>
        <p:blipFill>
          <a:blip r:embed="rId1"/>
          <a:stretch/>
        </p:blipFill>
        <p:spPr>
          <a:xfrm>
            <a:off x="6705720" y="10666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diffan"/>
          <p:cNvPicPr/>
          <p:nvPr/>
        </p:nvPicPr>
        <p:blipFill>
          <a:blip r:embed="rId2"/>
          <a:stretch/>
        </p:blipFill>
        <p:spPr>
          <a:xfrm>
            <a:off x="6858000" y="3505320"/>
            <a:ext cx="1908000" cy="31147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8"/>
          <p:cNvSpPr/>
          <p:nvPr/>
        </p:nvSpPr>
        <p:spPr>
          <a:xfrm>
            <a:off x="6400800" y="6523200"/>
            <a:ext cx="27432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ffff"/>
                </a:solidFill>
                <a:latin typeface="Arial"/>
              </a:rPr>
              <a:t>http://bio.winona.edu/berg/Free.ht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6324480" y="152280"/>
            <a:ext cx="2590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Simple Diffusion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4952880" cy="4665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Facilitated diffus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diffusion of specific particles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through transport protei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und in the membra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 Proteins are </a:t>
            </a: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specif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they “select” only certain molecules  to cross the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s larger or charged molec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diffuse"/>
          <p:cNvPicPr/>
          <p:nvPr/>
        </p:nvPicPr>
        <p:blipFill>
          <a:blip r:embed="rId1"/>
          <a:stretch/>
        </p:blipFill>
        <p:spPr>
          <a:xfrm>
            <a:off x="5181480" y="1371600"/>
            <a:ext cx="3962520" cy="19810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5181480" y="3352680"/>
            <a:ext cx="1981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(Channel Prote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7634160" y="3429000"/>
            <a:ext cx="15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usion </a:t>
            </a: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(Lipid Bilay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0" y="380880"/>
            <a:ext cx="61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assive Transport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2. </a:t>
            </a: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Facilitated Diffu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11" descr="facil-diffusion"/>
          <p:cNvPicPr/>
          <p:nvPr/>
        </p:nvPicPr>
        <p:blipFill>
          <a:blip r:embed="rId2"/>
          <a:stretch/>
        </p:blipFill>
        <p:spPr>
          <a:xfrm>
            <a:off x="5257800" y="4952880"/>
            <a:ext cx="1924200" cy="15624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2"/>
          <p:cNvSpPr/>
          <p:nvPr/>
        </p:nvSpPr>
        <p:spPr>
          <a:xfrm>
            <a:off x="5181480" y="64771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Carrier Prot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5943600" y="838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8229600" y="838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2438280" y="6705720"/>
            <a:ext cx="2438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bio.winona.edu/berg/Free.ht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16"/>
          <p:cNvGrpSpPr/>
          <p:nvPr/>
        </p:nvGrpSpPr>
        <p:grpSpPr>
          <a:xfrm>
            <a:off x="3784680" y="1670040"/>
            <a:ext cx="2816280" cy="3747960"/>
            <a:chOff x="3784680" y="1670040"/>
            <a:chExt cx="2816280" cy="3747960"/>
          </a:xfrm>
        </p:grpSpPr>
        <p:pic>
          <p:nvPicPr>
            <p:cNvPr id="176" name="Picture 2" descr=""/>
            <p:cNvPicPr/>
            <p:nvPr/>
          </p:nvPicPr>
          <p:blipFill>
            <a:blip r:embed="rId1"/>
            <a:stretch/>
          </p:blipFill>
          <p:spPr>
            <a:xfrm>
              <a:off x="3784680" y="1670040"/>
              <a:ext cx="2816280" cy="37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Line 15"/>
            <p:cNvSpPr/>
            <p:nvPr/>
          </p:nvSpPr>
          <p:spPr>
            <a:xfrm>
              <a:off x="5486400" y="3581280"/>
              <a:ext cx="838080" cy="12956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Text Box 3"/>
          <p:cNvSpPr/>
          <p:nvPr/>
        </p:nvSpPr>
        <p:spPr>
          <a:xfrm>
            <a:off x="993600" y="198108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597"/>
                </a:solidFill>
                <a:uFillTx/>
                <a:latin typeface="Arial"/>
              </a:rPr>
              <a:t>Hig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90720" y="457200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597"/>
                </a:solidFill>
                <a:uFillTx/>
                <a:latin typeface="Arial"/>
              </a:rPr>
              <a:t>Low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994320" y="32767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 Membr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5486400" y="102888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lec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5889240" y="4554360"/>
            <a:ext cx="8056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te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0" y="2286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assive Transport:  </a:t>
            </a:r>
            <a:r>
              <a:rPr b="0" lang="en-US" sz="3200" spc="-1" strike="noStrike" u="sng">
                <a:solidFill>
                  <a:srgbClr val="ccffff"/>
                </a:solidFill>
                <a:uFillTx/>
                <a:latin typeface="Arial"/>
              </a:rPr>
              <a:t>2. Facilitated Diff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2819520" y="54864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Transport 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 flipV="1">
            <a:off x="3962520" y="3885840"/>
            <a:ext cx="1066680" cy="16765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>
            <a:off x="1676520" y="2590920"/>
            <a:ext cx="0" cy="1981080"/>
          </a:xfrm>
          <a:prstGeom prst="line">
            <a:avLst/>
          </a:prstGeom>
          <a:ln w="38160">
            <a:solidFill>
              <a:srgbClr val="ffe7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1143000" y="5791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rough a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0" y="1523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Cellular Transport From a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3809880" y="1676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5638680" y="46483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21"/>
          <p:cNvSpPr/>
          <p:nvPr/>
        </p:nvSpPr>
        <p:spPr>
          <a:xfrm>
            <a:off x="6629400" y="23623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Channel Protei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im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240" y="1447920"/>
            <a:ext cx="4876920" cy="3200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-30492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diffusion of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wa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rough a selectively permeable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moves from high to low concent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5" descr="osmosis"/>
          <p:cNvPicPr/>
          <p:nvPr/>
        </p:nvPicPr>
        <p:blipFill>
          <a:blip r:embed="rId1"/>
          <a:stretch/>
        </p:blipFill>
        <p:spPr>
          <a:xfrm>
            <a:off x="5181480" y="1371600"/>
            <a:ext cx="3775320" cy="28083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>
            <a:off x="5410080" y="4495680"/>
            <a:ext cx="33688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moves freely through p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ute (green) to large to move acro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6705720" y="380880"/>
            <a:ext cx="2133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Osm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0" y="380880"/>
            <a:ext cx="61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assive Transport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3. </a:t>
            </a: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Osmo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0" y="1460520"/>
            <a:ext cx="9144000" cy="54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uses ener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ly moves molecules to where they are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 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low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concentration to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igh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oncentr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Low 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Hig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ree Typ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609480" y="1371600"/>
            <a:ext cx="7925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228600" y="1676520"/>
            <a:ext cx="4114800" cy="3867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Protein Pum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transport proteins that require energy to do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dium / Potassium Pumps are important in nerve respon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7086600" y="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Sodium Potassium Pump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ctive Transport using prote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8" descr="antiport"/>
          <p:cNvPicPr/>
          <p:nvPr/>
        </p:nvPicPr>
        <p:blipFill>
          <a:blip r:embed="rId2"/>
          <a:stretch/>
        </p:blipFill>
        <p:spPr>
          <a:xfrm>
            <a:off x="4724280" y="1676520"/>
            <a:ext cx="4267440" cy="28987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9"/>
          <p:cNvSpPr/>
          <p:nvPr/>
        </p:nvSpPr>
        <p:spPr>
          <a:xfrm>
            <a:off x="5257800" y="472428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in changes shape to move molecules:  this requires energ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0"/>
          <p:cNvSpPr/>
          <p:nvPr/>
        </p:nvSpPr>
        <p:spPr>
          <a:xfrm>
            <a:off x="0" y="114300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624852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5068800" cy="513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Endocyto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aking bulky material into a ce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membrane in-folds around food part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cell eat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s food vacuole &amp; digests 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how white blood cells eat bacteria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5" descr="endocytosis"/>
          <p:cNvPicPr/>
          <p:nvPr/>
        </p:nvPicPr>
        <p:blipFill>
          <a:blip r:embed="rId1"/>
          <a:stretch/>
        </p:blipFill>
        <p:spPr>
          <a:xfrm>
            <a:off x="5257800" y="2819520"/>
            <a:ext cx="3738600" cy="1218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~AUT0028"/>
          <p:cNvPicPr/>
          <p:nvPr/>
        </p:nvPicPr>
        <p:blipFill>
          <a:blip r:embed="rId2"/>
          <a:stretch/>
        </p:blipFill>
        <p:spPr>
          <a:xfrm>
            <a:off x="6095880" y="152280"/>
            <a:ext cx="2176560" cy="254808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8"/>
          <p:cNvGrpSpPr/>
          <p:nvPr/>
        </p:nvGrpSpPr>
        <p:grpSpPr>
          <a:xfrm>
            <a:off x="5181480" y="4191120"/>
            <a:ext cx="3733560" cy="2361960"/>
            <a:chOff x="5181480" y="4191120"/>
            <a:chExt cx="3733560" cy="2361960"/>
          </a:xfrm>
        </p:grpSpPr>
        <p:pic>
          <p:nvPicPr>
            <p:cNvPr id="216" name="Picture 9" descr="phago"/>
            <p:cNvPicPr/>
            <p:nvPr/>
          </p:nvPicPr>
          <p:blipFill>
            <a:blip r:embed="rId3"/>
            <a:srcRect l="16278" t="1837" r="0" b="20204"/>
            <a:stretch/>
          </p:blipFill>
          <p:spPr>
            <a:xfrm>
              <a:off x="5195880" y="4191120"/>
              <a:ext cx="371916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Rectangle 10"/>
            <p:cNvSpPr/>
            <p:nvPr/>
          </p:nvSpPr>
          <p:spPr>
            <a:xfrm>
              <a:off x="5181480" y="5518800"/>
              <a:ext cx="514800" cy="19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0102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280" y="1509840"/>
            <a:ext cx="5486400" cy="5348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Exocytosis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ces material out of ce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bu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rane surrounding the material fuses with cell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changes shape – requires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 Hormones or wastes released from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exocytosis 2"/>
          <p:cNvPicPr/>
          <p:nvPr/>
        </p:nvPicPr>
        <p:blipFill>
          <a:blip r:embed="rId1"/>
          <a:stretch/>
        </p:blipFill>
        <p:spPr>
          <a:xfrm>
            <a:off x="6095880" y="2819520"/>
            <a:ext cx="2476800" cy="24764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6"/>
          <p:cNvSpPr/>
          <p:nvPr/>
        </p:nvSpPr>
        <p:spPr>
          <a:xfrm>
            <a:off x="6400800" y="1523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Endocytosis &amp; Exocytosi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im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ffects of Osmosis on Life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diffusion of water through a selectively permeable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ter is so small and there is so much of it the cell can’t control it’s movement through the cell membr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511812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ypo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28" name="Picture 4" descr="hypotonic"/>
          <p:cNvPicPr/>
          <p:nvPr/>
        </p:nvPicPr>
        <p:blipFill>
          <a:blip r:embed="rId1"/>
          <a:stretch/>
        </p:blipFill>
        <p:spPr>
          <a:xfrm>
            <a:off x="255600" y="2635200"/>
            <a:ext cx="2743200" cy="232092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166680" y="992160"/>
            <a:ext cx="876636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Hypoton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The solution has a lower concentration of solutes and a higher concentration of water than inside the cell. </a:t>
            </a: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(Low solute; High wa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189000" y="556416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 moves from the solution to inside the cell): Cell Swells and bursts open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cytoly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)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7" descr="rbc"/>
          <p:cNvPicPr/>
          <p:nvPr/>
        </p:nvPicPr>
        <p:blipFill>
          <a:blip r:embed="rId2"/>
          <a:stretch/>
        </p:blipFill>
        <p:spPr>
          <a:xfrm>
            <a:off x="3176640" y="281448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RBC in hypotonic"/>
          <p:cNvPicPr/>
          <p:nvPr/>
        </p:nvPicPr>
        <p:blipFill>
          <a:blip r:embed="rId3"/>
          <a:stretch/>
        </p:blipFill>
        <p:spPr>
          <a:xfrm>
            <a:off x="6170760" y="2840040"/>
            <a:ext cx="2660400" cy="17733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9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68580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About Cell Membrane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5410080" cy="495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cells have a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s what enters and exits the cell to maintain an internal balance called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omeost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protection and support for the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real cell membrane"/>
          <p:cNvPicPr/>
          <p:nvPr/>
        </p:nvPicPr>
        <p:blipFill>
          <a:blip r:embed="rId1"/>
          <a:stretch/>
        </p:blipFill>
        <p:spPr>
          <a:xfrm>
            <a:off x="5770440" y="1905120"/>
            <a:ext cx="3373560" cy="28573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6054840" y="5229360"/>
            <a:ext cx="22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 picture of a real cell membra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11812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yper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66680" y="992160"/>
            <a:ext cx="876636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Hypertonic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solution has a higher concentration of solutes and a lower concentration of water than inside the cell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(High solute; Low wa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89000" y="556416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 moves from inside the cell  into the solution:   Cell shrinks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Plasmoly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)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6" descr="hypertonic"/>
          <p:cNvPicPr/>
          <p:nvPr/>
        </p:nvPicPr>
        <p:blipFill>
          <a:blip r:embed="rId1"/>
          <a:stretch/>
        </p:blipFill>
        <p:spPr>
          <a:xfrm>
            <a:off x="0" y="2514600"/>
            <a:ext cx="3429000" cy="29005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RBC in hypertonic"/>
          <p:cNvPicPr/>
          <p:nvPr/>
        </p:nvPicPr>
        <p:blipFill>
          <a:blip r:embed="rId2"/>
          <a:srcRect l="31200" t="19800" r="0" b="0"/>
          <a:stretch/>
        </p:blipFill>
        <p:spPr>
          <a:xfrm>
            <a:off x="7300800" y="3124080"/>
            <a:ext cx="1843200" cy="14302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8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9"/>
          <p:cNvSpPr/>
          <p:nvPr/>
        </p:nvSpPr>
        <p:spPr>
          <a:xfrm flipH="1" flipV="1">
            <a:off x="7924320" y="4190760"/>
            <a:ext cx="304920" cy="5331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10" descr="turgor"/>
          <p:cNvPicPr/>
          <p:nvPr/>
        </p:nvPicPr>
        <p:blipFill>
          <a:blip r:embed="rId3"/>
          <a:stretch/>
        </p:blipFill>
        <p:spPr>
          <a:xfrm>
            <a:off x="3505320" y="2514600"/>
            <a:ext cx="3733560" cy="2911320"/>
          </a:xfrm>
          <a:prstGeom prst="rect">
            <a:avLst/>
          </a:prstGeom>
          <a:ln w="0">
            <a:noFill/>
          </a:ln>
        </p:spPr>
      </p:pic>
      <p:sp>
        <p:nvSpPr>
          <p:cNvPr id="243" name="Line 11"/>
          <p:cNvSpPr/>
          <p:nvPr/>
        </p:nvSpPr>
        <p:spPr>
          <a:xfrm flipH="1" flipV="1">
            <a:off x="6705720" y="4572000"/>
            <a:ext cx="91440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7772400" y="4800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rin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3"/>
          <p:cNvSpPr/>
          <p:nvPr/>
        </p:nvSpPr>
        <p:spPr>
          <a:xfrm>
            <a:off x="4876920" y="3505320"/>
            <a:ext cx="990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51181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so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66680" y="992160"/>
            <a:ext cx="876636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Isotonic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concentration of solutes in the solution is equal to the concentration of solutes inside the c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189000" y="527544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Water moves equally in both directions and the cell remains same size!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Dynamic Equilibri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6" descr="isotonic"/>
          <p:cNvPicPr/>
          <p:nvPr/>
        </p:nvPicPr>
        <p:blipFill>
          <a:blip r:embed="rId1"/>
          <a:stretch/>
        </p:blipFill>
        <p:spPr>
          <a:xfrm>
            <a:off x="511200" y="2401920"/>
            <a:ext cx="2857320" cy="2320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red blood cell iin isotonic solution"/>
          <p:cNvPicPr/>
          <p:nvPr/>
        </p:nvPicPr>
        <p:blipFill>
          <a:blip r:embed="rId2"/>
          <a:stretch/>
        </p:blipFill>
        <p:spPr>
          <a:xfrm>
            <a:off x="6510240" y="2320920"/>
            <a:ext cx="1974960" cy="244152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8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5" descr="5"/>
          <p:cNvPicPr/>
          <p:nvPr/>
        </p:nvPicPr>
        <p:blipFill>
          <a:blip r:embed="rId1"/>
          <a:srcRect l="9600" t="12600" r="9600" b="3600"/>
          <a:stretch/>
        </p:blipFill>
        <p:spPr>
          <a:xfrm>
            <a:off x="762120" y="762120"/>
            <a:ext cx="7086600" cy="490212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6"/>
          <p:cNvSpPr/>
          <p:nvPr/>
        </p:nvSpPr>
        <p:spPr>
          <a:xfrm>
            <a:off x="685800" y="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ype of solution are these cells 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2895480" y="28195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6629400" y="2743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47242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22860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4419720" y="571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2"/>
          <p:cNvSpPr/>
          <p:nvPr/>
        </p:nvSpPr>
        <p:spPr>
          <a:xfrm>
            <a:off x="61722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ow Organisms Deal with Osmotic Pressur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781320" y="152280"/>
            <a:ext cx="22100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amecium (protist) removing excess water vide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828800" y="297180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0" y="1295280"/>
            <a:ext cx="914400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Bacteria and pla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ave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cell wa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prevent them from over-expanding. In plants the pressure exerted on the cell wall is called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tugor pressure.</a:t>
            </a:r>
            <a:r>
              <a:rPr b="0" lang="en-US" sz="1800" spc="-1" strike="noStrike">
                <a:solidFill>
                  <a:srgbClr val="fff59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proti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ke paramecium has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contractile vacuo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collect water flowing in and pump it out to prevent them from over-expan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Salt water fis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ump salt out of their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specialized gi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 they do not dehyd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Animal ce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bathed in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blood. Kidney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keep the blood isotonic by remove excess salt and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837720"/>
            <a:ext cx="5562720" cy="495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298800" indent="-298800"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 of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597"/>
                </a:solidFill>
                <a:latin typeface="Arial"/>
              </a:rPr>
              <a:t>Lipid Bilay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-2 layers of phospholipi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ate head is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pol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water lov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ty acid tails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non-polar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ater fear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ins embedded in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bout Cell Membranes (continued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0" name="Picture 5" descr="phospholipid"/>
          <p:cNvPicPr/>
          <p:nvPr/>
        </p:nvPicPr>
        <p:blipFill>
          <a:blip r:embed="rId1"/>
          <a:stretch/>
        </p:blipFill>
        <p:spPr>
          <a:xfrm>
            <a:off x="6248520" y="838080"/>
            <a:ext cx="172224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3227400" cy="14842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609588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olip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095880" y="55627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pid Bi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10" descr="3"/>
          <p:cNvPicPr/>
          <p:nvPr/>
        </p:nvPicPr>
        <p:blipFill>
          <a:blip r:embed="rId3"/>
          <a:srcRect l="19200" t="0" r="60004" b="0"/>
          <a:stretch/>
        </p:blipFill>
        <p:spPr>
          <a:xfrm>
            <a:off x="8153280" y="685800"/>
            <a:ext cx="736560" cy="23623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1219320" y="3738600"/>
            <a:ext cx="6781680" cy="29671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1447920" y="6019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te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0"/>
          <p:cNvGrpSpPr/>
          <p:nvPr/>
        </p:nvGrpSpPr>
        <p:grpSpPr>
          <a:xfrm>
            <a:off x="152280" y="304920"/>
            <a:ext cx="5867280" cy="3308400"/>
            <a:chOff x="152280" y="304920"/>
            <a:chExt cx="5867280" cy="3308400"/>
          </a:xfrm>
        </p:grpSpPr>
        <p:pic>
          <p:nvPicPr>
            <p:cNvPr id="69" name="Picture 5" descr="3"/>
            <p:cNvPicPr/>
            <p:nvPr/>
          </p:nvPicPr>
          <p:blipFill>
            <a:blip r:embed="rId2"/>
            <a:srcRect l="1200" t="21600" r="51604" b="21600"/>
            <a:stretch/>
          </p:blipFill>
          <p:spPr>
            <a:xfrm>
              <a:off x="152280" y="304920"/>
              <a:ext cx="3825000" cy="330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9" descr="3"/>
            <p:cNvPicPr/>
            <p:nvPr/>
          </p:nvPicPr>
          <p:blipFill>
            <a:blip r:embed="rId3"/>
            <a:srcRect l="72004" t="21600" r="0" b="21600"/>
            <a:stretch/>
          </p:blipFill>
          <p:spPr>
            <a:xfrm>
              <a:off x="3750840" y="304920"/>
              <a:ext cx="2268720" cy="33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Rectangle 11"/>
          <p:cNvSpPr/>
          <p:nvPr/>
        </p:nvSpPr>
        <p:spPr>
          <a:xfrm>
            <a:off x="6477120" y="2209680"/>
            <a:ext cx="2133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4"/>
              </a:rPr>
              <a:t>Membrane movement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 flipH="1">
            <a:off x="3276360" y="914400"/>
            <a:ext cx="609480" cy="5335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886200" y="304920"/>
            <a:ext cx="220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lar heads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love wa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&amp; dissol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 flipH="1" flipV="1">
            <a:off x="3428640" y="2209320"/>
            <a:ext cx="609480" cy="3812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4038480" y="2286000"/>
            <a:ext cx="2210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n-polar tails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hide from wa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17"/>
          <p:cNvSpPr/>
          <p:nvPr/>
        </p:nvSpPr>
        <p:spPr>
          <a:xfrm flipV="1">
            <a:off x="1676520" y="5562720"/>
            <a:ext cx="75960" cy="4572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18"/>
          <p:cNvSpPr/>
          <p:nvPr/>
        </p:nvSpPr>
        <p:spPr>
          <a:xfrm flipV="1">
            <a:off x="2895480" y="5562360"/>
            <a:ext cx="304920" cy="6858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19"/>
          <p:cNvSpPr/>
          <p:nvPr/>
        </p:nvSpPr>
        <p:spPr>
          <a:xfrm flipH="1">
            <a:off x="2590920" y="4114800"/>
            <a:ext cx="914400" cy="763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3505320" y="380988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arbohydrate cell ma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5943600" y="22860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luid Mosaic Mode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of the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-360" y="1119240"/>
            <a:ext cx="8991720" cy="22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Cell membranes have pores (holes) in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301680">
              <a:spcBef>
                <a:spcPts val="799"/>
              </a:spcBef>
              <a:buClr>
                <a:srgbClr val="fff59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Selectively permeable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Allows some molecules in and keeps other molecules 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30168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ructure helps it be selectiv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380520" y="328680"/>
            <a:ext cx="815364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bout Cell Membranes (continued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1752480" y="3581280"/>
            <a:ext cx="5720040" cy="3009960"/>
          </a:xfrm>
          <a:prstGeom prst="rect">
            <a:avLst/>
          </a:prstGeom>
          <a:ln w="0">
            <a:noFill/>
          </a:ln>
        </p:spPr>
      </p:pic>
      <p:sp>
        <p:nvSpPr>
          <p:cNvPr id="85" name="Line 6"/>
          <p:cNvSpPr/>
          <p:nvPr/>
        </p:nvSpPr>
        <p:spPr>
          <a:xfrm flipH="1">
            <a:off x="2798280" y="5419800"/>
            <a:ext cx="623880" cy="36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397240" y="6032520"/>
            <a:ext cx="9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2441520" y="5151600"/>
            <a:ext cx="368280" cy="669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6919920" cy="31827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3581280" y="1371600"/>
            <a:ext cx="4191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Outside of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114440" y="5181480"/>
            <a:ext cx="2640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Inside of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(cytoplasm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30040" y="2819520"/>
            <a:ext cx="16480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Lip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Bi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574520" y="2590920"/>
            <a:ext cx="1297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ote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288160" y="4343400"/>
            <a:ext cx="18039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ranspo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327000" y="4572000"/>
            <a:ext cx="23983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hospholip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6785280" y="2209680"/>
            <a:ext cx="2026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arbohyd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h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83808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Structure of the Cell Membra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14"/>
          <p:cNvSpPr/>
          <p:nvPr/>
        </p:nvSpPr>
        <p:spPr>
          <a:xfrm>
            <a:off x="304920" y="106668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0" y="5486400"/>
            <a:ext cx="2438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Anim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membrane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Cellular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Passive Transpor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ell doesn’t use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m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Active Trans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ell does use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in Pum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ocy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ocy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81"/>
          <p:cNvGrpSpPr/>
          <p:nvPr/>
        </p:nvGrpSpPr>
        <p:grpSpPr>
          <a:xfrm>
            <a:off x="4952880" y="4205160"/>
            <a:ext cx="3963960" cy="2654280"/>
            <a:chOff x="4952880" y="4205160"/>
            <a:chExt cx="3963960" cy="2654280"/>
          </a:xfrm>
        </p:grpSpPr>
        <p:grpSp>
          <p:nvGrpSpPr>
            <p:cNvPr id="105" name="Group 25"/>
            <p:cNvGrpSpPr/>
            <p:nvPr/>
          </p:nvGrpSpPr>
          <p:grpSpPr>
            <a:xfrm>
              <a:off x="4952880" y="4205160"/>
              <a:ext cx="3963960" cy="2654280"/>
              <a:chOff x="4952880" y="4205160"/>
              <a:chExt cx="3963960" cy="2654280"/>
            </a:xfrm>
          </p:grpSpPr>
          <p:sp>
            <p:nvSpPr>
              <p:cNvPr id="106" name="Oval 26"/>
              <p:cNvSpPr/>
              <p:nvPr/>
            </p:nvSpPr>
            <p:spPr>
              <a:xfrm>
                <a:off x="7467480" y="6262560"/>
                <a:ext cx="76320" cy="76320"/>
              </a:xfrm>
              <a:prstGeom prst="ellipse">
                <a:avLst/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7" name="Group 27"/>
              <p:cNvGrpSpPr/>
              <p:nvPr/>
            </p:nvGrpSpPr>
            <p:grpSpPr>
              <a:xfrm>
                <a:off x="4952880" y="4205160"/>
                <a:ext cx="3963960" cy="2654280"/>
                <a:chOff x="4952880" y="4205160"/>
                <a:chExt cx="3963960" cy="2654280"/>
              </a:xfrm>
            </p:grpSpPr>
            <p:sp>
              <p:nvSpPr>
                <p:cNvPr id="108" name="Freeform 28"/>
                <p:cNvSpPr/>
                <p:nvPr/>
              </p:nvSpPr>
              <p:spPr>
                <a:xfrm>
                  <a:off x="4952880" y="5051520"/>
                  <a:ext cx="2979720" cy="1312920"/>
                </a:xfrm>
                <a:custGeom>
                  <a:avLst/>
                  <a:gdLst/>
                  <a:ahLst/>
                  <a:rect l="l" t="t" r="r" b="b"/>
                  <a:pathLst>
                    <a:path w="1877" h="827">
                      <a:moveTo>
                        <a:pt x="0" y="814"/>
                      </a:moveTo>
                      <a:cubicBezTo>
                        <a:pt x="29" y="805"/>
                        <a:pt x="62" y="798"/>
                        <a:pt x="88" y="781"/>
                      </a:cubicBezTo>
                      <a:cubicBezTo>
                        <a:pt x="138" y="750"/>
                        <a:pt x="94" y="768"/>
                        <a:pt x="135" y="753"/>
                      </a:cubicBezTo>
                      <a:cubicBezTo>
                        <a:pt x="157" y="732"/>
                        <a:pt x="160" y="711"/>
                        <a:pt x="183" y="692"/>
                      </a:cubicBezTo>
                      <a:cubicBezTo>
                        <a:pt x="219" y="662"/>
                        <a:pt x="262" y="647"/>
                        <a:pt x="291" y="604"/>
                      </a:cubicBezTo>
                      <a:cubicBezTo>
                        <a:pt x="321" y="560"/>
                        <a:pt x="350" y="520"/>
                        <a:pt x="386" y="482"/>
                      </a:cubicBezTo>
                      <a:cubicBezTo>
                        <a:pt x="398" y="447"/>
                        <a:pt x="390" y="466"/>
                        <a:pt x="420" y="421"/>
                      </a:cubicBezTo>
                      <a:cubicBezTo>
                        <a:pt x="425" y="414"/>
                        <a:pt x="434" y="401"/>
                        <a:pt x="434" y="401"/>
                      </a:cubicBezTo>
                      <a:cubicBezTo>
                        <a:pt x="449" y="353"/>
                        <a:pt x="442" y="374"/>
                        <a:pt x="454" y="340"/>
                      </a:cubicBezTo>
                      <a:cubicBezTo>
                        <a:pt x="459" y="325"/>
                        <a:pt x="472" y="313"/>
                        <a:pt x="481" y="299"/>
                      </a:cubicBezTo>
                      <a:cubicBezTo>
                        <a:pt x="486" y="292"/>
                        <a:pt x="495" y="279"/>
                        <a:pt x="495" y="279"/>
                      </a:cubicBezTo>
                      <a:cubicBezTo>
                        <a:pt x="509" y="235"/>
                        <a:pt x="537" y="165"/>
                        <a:pt x="583" y="150"/>
                      </a:cubicBezTo>
                      <a:cubicBezTo>
                        <a:pt x="605" y="117"/>
                        <a:pt x="647" y="95"/>
                        <a:pt x="678" y="69"/>
                      </a:cubicBezTo>
                      <a:cubicBezTo>
                        <a:pt x="694" y="56"/>
                        <a:pt x="699" y="43"/>
                        <a:pt x="718" y="35"/>
                      </a:cubicBezTo>
                      <a:cubicBezTo>
                        <a:pt x="731" y="29"/>
                        <a:pt x="745" y="26"/>
                        <a:pt x="759" y="22"/>
                      </a:cubicBezTo>
                      <a:cubicBezTo>
                        <a:pt x="772" y="18"/>
                        <a:pt x="799" y="8"/>
                        <a:pt x="799" y="8"/>
                      </a:cubicBezTo>
                      <a:cubicBezTo>
                        <a:pt x="954" y="16"/>
                        <a:pt x="914" y="0"/>
                        <a:pt x="1003" y="55"/>
                      </a:cubicBezTo>
                      <a:cubicBezTo>
                        <a:pt x="1042" y="111"/>
                        <a:pt x="1023" y="89"/>
                        <a:pt x="1057" y="123"/>
                      </a:cubicBezTo>
                      <a:cubicBezTo>
                        <a:pt x="1064" y="145"/>
                        <a:pt x="1091" y="184"/>
                        <a:pt x="1091" y="184"/>
                      </a:cubicBezTo>
                      <a:cubicBezTo>
                        <a:pt x="1100" y="212"/>
                        <a:pt x="1111" y="225"/>
                        <a:pt x="1132" y="245"/>
                      </a:cubicBezTo>
                      <a:cubicBezTo>
                        <a:pt x="1147" y="294"/>
                        <a:pt x="1137" y="274"/>
                        <a:pt x="1159" y="306"/>
                      </a:cubicBezTo>
                      <a:cubicBezTo>
                        <a:pt x="1168" y="335"/>
                        <a:pt x="1181" y="356"/>
                        <a:pt x="1199" y="381"/>
                      </a:cubicBezTo>
                      <a:cubicBezTo>
                        <a:pt x="1207" y="403"/>
                        <a:pt x="1214" y="440"/>
                        <a:pt x="1226" y="462"/>
                      </a:cubicBezTo>
                      <a:cubicBezTo>
                        <a:pt x="1234" y="476"/>
                        <a:pt x="1254" y="503"/>
                        <a:pt x="1254" y="503"/>
                      </a:cubicBezTo>
                      <a:cubicBezTo>
                        <a:pt x="1269" y="553"/>
                        <a:pt x="1291" y="596"/>
                        <a:pt x="1308" y="645"/>
                      </a:cubicBezTo>
                      <a:cubicBezTo>
                        <a:pt x="1316" y="669"/>
                        <a:pt x="1355" y="706"/>
                        <a:pt x="1355" y="706"/>
                      </a:cubicBezTo>
                      <a:cubicBezTo>
                        <a:pt x="1358" y="715"/>
                        <a:pt x="1366" y="742"/>
                        <a:pt x="1375" y="747"/>
                      </a:cubicBezTo>
                      <a:cubicBezTo>
                        <a:pt x="1458" y="795"/>
                        <a:pt x="1354" y="700"/>
                        <a:pt x="1450" y="767"/>
                      </a:cubicBezTo>
                      <a:cubicBezTo>
                        <a:pt x="1502" y="803"/>
                        <a:pt x="1557" y="803"/>
                        <a:pt x="1619" y="808"/>
                      </a:cubicBezTo>
                      <a:cubicBezTo>
                        <a:pt x="1727" y="827"/>
                        <a:pt x="1641" y="814"/>
                        <a:pt x="1877" y="814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Oval 29"/>
                <p:cNvSpPr/>
                <p:nvPr/>
              </p:nvSpPr>
              <p:spPr>
                <a:xfrm>
                  <a:off x="7240680" y="6186600"/>
                  <a:ext cx="75960" cy="75960"/>
                </a:xfrm>
                <a:prstGeom prst="ellipse">
                  <a:avLst/>
                </a:prstGeom>
                <a:solidFill>
                  <a:srgbClr val="33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Oval 30"/>
                <p:cNvSpPr/>
                <p:nvPr/>
              </p:nvSpPr>
              <p:spPr>
                <a:xfrm>
                  <a:off x="7392960" y="5576760"/>
                  <a:ext cx="152280" cy="228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Line 31"/>
                <p:cNvSpPr/>
                <p:nvPr/>
              </p:nvSpPr>
              <p:spPr>
                <a:xfrm flipH="1" flipV="1">
                  <a:off x="7164000" y="580536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Line 32"/>
                <p:cNvSpPr/>
                <p:nvPr/>
              </p:nvSpPr>
              <p:spPr>
                <a:xfrm>
                  <a:off x="7469280" y="5805360"/>
                  <a:ext cx="0" cy="304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Line 33"/>
                <p:cNvSpPr/>
                <p:nvPr/>
              </p:nvSpPr>
              <p:spPr>
                <a:xfrm flipH="1">
                  <a:off x="7316640" y="6110280"/>
                  <a:ext cx="15264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34"/>
                <p:cNvSpPr/>
                <p:nvPr/>
              </p:nvSpPr>
              <p:spPr>
                <a:xfrm>
                  <a:off x="7469280" y="611028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35"/>
                <p:cNvSpPr/>
                <p:nvPr/>
              </p:nvSpPr>
              <p:spPr>
                <a:xfrm flipV="1">
                  <a:off x="7469280" y="58053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Line 36"/>
                <p:cNvSpPr/>
                <p:nvPr/>
              </p:nvSpPr>
              <p:spPr>
                <a:xfrm flipH="1" flipV="1">
                  <a:off x="6630840" y="4966920"/>
                  <a:ext cx="533520" cy="1066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Line 37"/>
                <p:cNvSpPr/>
                <p:nvPr/>
              </p:nvSpPr>
              <p:spPr>
                <a:xfrm flipH="1">
                  <a:off x="6325920" y="4967280"/>
                  <a:ext cx="2286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Line 38"/>
                <p:cNvSpPr/>
                <p:nvPr/>
              </p:nvSpPr>
              <p:spPr>
                <a:xfrm flipH="1" flipV="1">
                  <a:off x="6554520" y="5653080"/>
                  <a:ext cx="533160" cy="8380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Text Box 39"/>
                <p:cNvSpPr/>
                <p:nvPr/>
              </p:nvSpPr>
              <p:spPr>
                <a:xfrm>
                  <a:off x="5945040" y="5348160"/>
                  <a:ext cx="68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high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Text Box 40"/>
                <p:cNvSpPr/>
                <p:nvPr/>
              </p:nvSpPr>
              <p:spPr>
                <a:xfrm>
                  <a:off x="7240680" y="6491160"/>
                  <a:ext cx="68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low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AutoShape 41"/>
                <p:cNvSpPr/>
                <p:nvPr/>
              </p:nvSpPr>
              <p:spPr>
                <a:xfrm>
                  <a:off x="7392960" y="4205160"/>
                  <a:ext cx="1523880" cy="1295640"/>
                </a:xfrm>
                <a:prstGeom prst="wedgeEllipseCallout">
                  <a:avLst>
                    <a:gd name="adj1" fmla="val -34375"/>
                    <a:gd name="adj2" fmla="val 65319"/>
                  </a:avLst>
                </a:prstGeom>
                <a:solidFill>
                  <a:srgbClr val="33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This is gonna be hard work!!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" name="Oval 78"/>
            <p:cNvSpPr/>
            <p:nvPr/>
          </p:nvSpPr>
          <p:spPr>
            <a:xfrm>
              <a:off x="7543800" y="626256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79"/>
            <p:cNvSpPr/>
            <p:nvPr/>
          </p:nvSpPr>
          <p:spPr>
            <a:xfrm>
              <a:off x="7315200" y="626256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Group 82"/>
          <p:cNvGrpSpPr/>
          <p:nvPr/>
        </p:nvGrpSpPr>
        <p:grpSpPr>
          <a:xfrm>
            <a:off x="4876920" y="914400"/>
            <a:ext cx="3276000" cy="2806560"/>
            <a:chOff x="4876920" y="914400"/>
            <a:chExt cx="3276000" cy="2806560"/>
          </a:xfrm>
        </p:grpSpPr>
        <p:grpSp>
          <p:nvGrpSpPr>
            <p:cNvPr id="125" name="Group 5"/>
            <p:cNvGrpSpPr/>
            <p:nvPr/>
          </p:nvGrpSpPr>
          <p:grpSpPr>
            <a:xfrm>
              <a:off x="4876920" y="914400"/>
              <a:ext cx="3276000" cy="2806560"/>
              <a:chOff x="4876920" y="914400"/>
              <a:chExt cx="3276000" cy="2806560"/>
            </a:xfrm>
          </p:grpSpPr>
          <p:sp>
            <p:nvSpPr>
              <p:cNvPr id="126" name="Line 6"/>
              <p:cNvSpPr/>
              <p:nvPr/>
            </p:nvSpPr>
            <p:spPr>
              <a:xfrm>
                <a:off x="6629400" y="1981080"/>
                <a:ext cx="533520" cy="990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" name="Group 7"/>
              <p:cNvGrpSpPr/>
              <p:nvPr/>
            </p:nvGrpSpPr>
            <p:grpSpPr>
              <a:xfrm>
                <a:off x="4876920" y="914400"/>
                <a:ext cx="3276000" cy="2806560"/>
                <a:chOff x="4876920" y="914400"/>
                <a:chExt cx="3276000" cy="2806560"/>
              </a:xfrm>
            </p:grpSpPr>
            <p:sp>
              <p:nvSpPr>
                <p:cNvPr id="128" name="Line 8"/>
                <p:cNvSpPr/>
                <p:nvPr/>
              </p:nvSpPr>
              <p:spPr>
                <a:xfrm>
                  <a:off x="6248160" y="182880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" name="Group 9"/>
                <p:cNvGrpSpPr/>
                <p:nvPr/>
              </p:nvGrpSpPr>
              <p:grpSpPr>
                <a:xfrm>
                  <a:off x="4876920" y="914400"/>
                  <a:ext cx="3276000" cy="2806560"/>
                  <a:chOff x="4876920" y="914400"/>
                  <a:chExt cx="3276000" cy="2806560"/>
                </a:xfrm>
              </p:grpSpPr>
              <p:sp>
                <p:nvSpPr>
                  <p:cNvPr id="130" name="Line 10"/>
                  <p:cNvSpPr/>
                  <p:nvPr/>
                </p:nvSpPr>
                <p:spPr>
                  <a:xfrm flipH="1">
                    <a:off x="6095880" y="1828800"/>
                    <a:ext cx="151920" cy="1522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Oval 11"/>
                  <p:cNvSpPr/>
                  <p:nvPr/>
                </p:nvSpPr>
                <p:spPr>
                  <a:xfrm>
                    <a:off x="6248160" y="1981080"/>
                    <a:ext cx="75960" cy="76320"/>
                  </a:xfrm>
                  <a:prstGeom prst="ellipse">
                    <a:avLst/>
                  </a:prstGeom>
                  <a:solidFill>
                    <a:srgbClr val="3366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Oval 12"/>
                  <p:cNvSpPr/>
                  <p:nvPr/>
                </p:nvSpPr>
                <p:spPr>
                  <a:xfrm>
                    <a:off x="6324480" y="1981080"/>
                    <a:ext cx="75960" cy="76320"/>
                  </a:xfrm>
                  <a:prstGeom prst="ellipse">
                    <a:avLst/>
                  </a:prstGeom>
                  <a:solidFill>
                    <a:srgbClr val="3366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3" name="Group 13"/>
                  <p:cNvGrpSpPr/>
                  <p:nvPr/>
                </p:nvGrpSpPr>
                <p:grpSpPr>
                  <a:xfrm>
                    <a:off x="4876920" y="914400"/>
                    <a:ext cx="3276000" cy="2806560"/>
                    <a:chOff x="4876920" y="914400"/>
                    <a:chExt cx="3276000" cy="2806560"/>
                  </a:xfrm>
                </p:grpSpPr>
                <p:sp>
                  <p:nvSpPr>
                    <p:cNvPr id="134" name="Freeform 14"/>
                    <p:cNvSpPr/>
                    <p:nvPr/>
                  </p:nvSpPr>
                  <p:spPr>
                    <a:xfrm>
                      <a:off x="4876920" y="2057400"/>
                      <a:ext cx="2979360" cy="13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77" h="827">
                          <a:moveTo>
                            <a:pt x="0" y="814"/>
                          </a:moveTo>
                          <a:cubicBezTo>
                            <a:pt x="29" y="805"/>
                            <a:pt x="62" y="798"/>
                            <a:pt x="88" y="781"/>
                          </a:cubicBezTo>
                          <a:cubicBezTo>
                            <a:pt x="138" y="750"/>
                            <a:pt x="94" y="768"/>
                            <a:pt x="135" y="753"/>
                          </a:cubicBezTo>
                          <a:cubicBezTo>
                            <a:pt x="157" y="732"/>
                            <a:pt x="160" y="711"/>
                            <a:pt x="183" y="692"/>
                          </a:cubicBezTo>
                          <a:cubicBezTo>
                            <a:pt x="219" y="662"/>
                            <a:pt x="262" y="647"/>
                            <a:pt x="291" y="604"/>
                          </a:cubicBezTo>
                          <a:cubicBezTo>
                            <a:pt x="321" y="560"/>
                            <a:pt x="350" y="520"/>
                            <a:pt x="386" y="482"/>
                          </a:cubicBezTo>
                          <a:cubicBezTo>
                            <a:pt x="398" y="447"/>
                            <a:pt x="390" y="466"/>
                            <a:pt x="420" y="421"/>
                          </a:cubicBezTo>
                          <a:cubicBezTo>
                            <a:pt x="425" y="414"/>
                            <a:pt x="434" y="401"/>
                            <a:pt x="434" y="401"/>
                          </a:cubicBezTo>
                          <a:cubicBezTo>
                            <a:pt x="449" y="353"/>
                            <a:pt x="442" y="374"/>
                            <a:pt x="454" y="340"/>
                          </a:cubicBezTo>
                          <a:cubicBezTo>
                            <a:pt x="459" y="325"/>
                            <a:pt x="472" y="313"/>
                            <a:pt x="481" y="299"/>
                          </a:cubicBezTo>
                          <a:cubicBezTo>
                            <a:pt x="486" y="292"/>
                            <a:pt x="495" y="279"/>
                            <a:pt x="495" y="279"/>
                          </a:cubicBezTo>
                          <a:cubicBezTo>
                            <a:pt x="509" y="235"/>
                            <a:pt x="537" y="165"/>
                            <a:pt x="583" y="150"/>
                          </a:cubicBezTo>
                          <a:cubicBezTo>
                            <a:pt x="605" y="117"/>
                            <a:pt x="647" y="95"/>
                            <a:pt x="678" y="69"/>
                          </a:cubicBezTo>
                          <a:cubicBezTo>
                            <a:pt x="694" y="56"/>
                            <a:pt x="699" y="43"/>
                            <a:pt x="718" y="35"/>
                          </a:cubicBezTo>
                          <a:cubicBezTo>
                            <a:pt x="731" y="29"/>
                            <a:pt x="745" y="26"/>
                            <a:pt x="759" y="22"/>
                          </a:cubicBezTo>
                          <a:cubicBezTo>
                            <a:pt x="772" y="18"/>
                            <a:pt x="799" y="8"/>
                            <a:pt x="799" y="8"/>
                          </a:cubicBezTo>
                          <a:cubicBezTo>
                            <a:pt x="954" y="16"/>
                            <a:pt x="914" y="0"/>
                            <a:pt x="1003" y="55"/>
                          </a:cubicBezTo>
                          <a:cubicBezTo>
                            <a:pt x="1042" y="111"/>
                            <a:pt x="1023" y="89"/>
                            <a:pt x="1057" y="123"/>
                          </a:cubicBezTo>
                          <a:cubicBezTo>
                            <a:pt x="1064" y="145"/>
                            <a:pt x="1091" y="184"/>
                            <a:pt x="1091" y="184"/>
                          </a:cubicBezTo>
                          <a:cubicBezTo>
                            <a:pt x="1100" y="212"/>
                            <a:pt x="1111" y="225"/>
                            <a:pt x="1132" y="245"/>
                          </a:cubicBezTo>
                          <a:cubicBezTo>
                            <a:pt x="1147" y="294"/>
                            <a:pt x="1137" y="274"/>
                            <a:pt x="1159" y="306"/>
                          </a:cubicBezTo>
                          <a:cubicBezTo>
                            <a:pt x="1168" y="335"/>
                            <a:pt x="1181" y="356"/>
                            <a:pt x="1199" y="381"/>
                          </a:cubicBezTo>
                          <a:cubicBezTo>
                            <a:pt x="1207" y="403"/>
                            <a:pt x="1214" y="440"/>
                            <a:pt x="1226" y="462"/>
                          </a:cubicBezTo>
                          <a:cubicBezTo>
                            <a:pt x="1234" y="476"/>
                            <a:pt x="1254" y="503"/>
                            <a:pt x="1254" y="503"/>
                          </a:cubicBezTo>
                          <a:cubicBezTo>
                            <a:pt x="1269" y="553"/>
                            <a:pt x="1291" y="596"/>
                            <a:pt x="1308" y="645"/>
                          </a:cubicBezTo>
                          <a:cubicBezTo>
                            <a:pt x="1316" y="669"/>
                            <a:pt x="1355" y="706"/>
                            <a:pt x="1355" y="706"/>
                          </a:cubicBezTo>
                          <a:cubicBezTo>
                            <a:pt x="1358" y="715"/>
                            <a:pt x="1366" y="742"/>
                            <a:pt x="1375" y="747"/>
                          </a:cubicBezTo>
                          <a:cubicBezTo>
                            <a:pt x="1458" y="795"/>
                            <a:pt x="1354" y="700"/>
                            <a:pt x="1450" y="767"/>
                          </a:cubicBezTo>
                          <a:cubicBezTo>
                            <a:pt x="1502" y="803"/>
                            <a:pt x="1557" y="803"/>
                            <a:pt x="1619" y="808"/>
                          </a:cubicBezTo>
                          <a:cubicBezTo>
                            <a:pt x="1727" y="827"/>
                            <a:pt x="1641" y="814"/>
                            <a:pt x="1877" y="814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Oval 15"/>
                    <p:cNvSpPr/>
                    <p:nvPr/>
                  </p:nvSpPr>
                  <p:spPr>
                    <a:xfrm>
                      <a:off x="6172200" y="1295280"/>
                      <a:ext cx="151920" cy="22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Line 16"/>
                    <p:cNvSpPr/>
                    <p:nvPr/>
                  </p:nvSpPr>
                  <p:spPr>
                    <a:xfrm>
                      <a:off x="6248160" y="1523880"/>
                      <a:ext cx="0" cy="3049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Oval 17"/>
                    <p:cNvSpPr/>
                    <p:nvPr/>
                  </p:nvSpPr>
                  <p:spPr>
                    <a:xfrm>
                      <a:off x="6095880" y="1981080"/>
                      <a:ext cx="75960" cy="76320"/>
                    </a:xfrm>
                    <a:prstGeom prst="ellipse">
                      <a:avLst/>
                    </a:prstGeom>
                    <a:solidFill>
                      <a:srgbClr val="3366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Line 18"/>
                    <p:cNvSpPr/>
                    <p:nvPr/>
                  </p:nvSpPr>
                  <p:spPr>
                    <a:xfrm flipH="1" flipV="1">
                      <a:off x="5943240" y="1600200"/>
                      <a:ext cx="304200" cy="763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Line 19"/>
                    <p:cNvSpPr/>
                    <p:nvPr/>
                  </p:nvSpPr>
                  <p:spPr>
                    <a:xfrm flipV="1">
                      <a:off x="6248160" y="1600200"/>
                      <a:ext cx="228240" cy="763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Line 20"/>
                    <p:cNvSpPr/>
                    <p:nvPr/>
                  </p:nvSpPr>
                  <p:spPr>
                    <a:xfrm>
                      <a:off x="7238880" y="3048120"/>
                      <a:ext cx="7617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Text Box 21"/>
                    <p:cNvSpPr/>
                    <p:nvPr/>
                  </p:nvSpPr>
                  <p:spPr>
                    <a:xfrm>
                      <a:off x="5867280" y="2438280"/>
                      <a:ext cx="6854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Text Box 22"/>
                    <p:cNvSpPr/>
                    <p:nvPr/>
                  </p:nvSpPr>
                  <p:spPr>
                    <a:xfrm>
                      <a:off x="7238880" y="3352680"/>
                      <a:ext cx="9140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AutoShape 23"/>
                    <p:cNvSpPr/>
                    <p:nvPr/>
                  </p:nvSpPr>
                  <p:spPr>
                    <a:xfrm>
                      <a:off x="6476760" y="914400"/>
                      <a:ext cx="1523880" cy="533520"/>
                    </a:xfrm>
                    <a:prstGeom prst="wedgeEllipseCallout">
                      <a:avLst>
                        <a:gd name="adj1" fmla="val -43750"/>
                        <a:gd name="adj2" fmla="val 70000"/>
                      </a:avLst>
                    </a:prstGeom>
                    <a:solidFill>
                      <a:srgbClr val="3366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 fontScale="89000"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eee!!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Line 24"/>
                    <p:cNvSpPr/>
                    <p:nvPr/>
                  </p:nvSpPr>
                  <p:spPr>
                    <a:xfrm>
                      <a:off x="6324480" y="2819520"/>
                      <a:ext cx="837720" cy="7617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45" name="Oval 80"/>
            <p:cNvSpPr/>
            <p:nvPr/>
          </p:nvSpPr>
          <p:spPr>
            <a:xfrm>
              <a:off x="6019920" y="198108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Text Box 83"/>
          <p:cNvSpPr/>
          <p:nvPr/>
        </p:nvSpPr>
        <p:spPr>
          <a:xfrm>
            <a:off x="6705720" y="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Animation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Active Transport &amp; Passive Trans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84"/>
          <p:cNvSpPr/>
          <p:nvPr/>
        </p:nvSpPr>
        <p:spPr>
          <a:xfrm>
            <a:off x="0" y="838080"/>
            <a:ext cx="6324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"/>
              </a:rPr>
              <a:t>Passive Transport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uses no ener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mov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andom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spread out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igh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concentration to an area of l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ow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oncent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(High</a:t>
            </a:r>
            <a:r>
              <a:rPr b="0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ow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Three typ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4"/>
          <p:cNvSpPr/>
          <p:nvPr/>
        </p:nvSpPr>
        <p:spPr>
          <a:xfrm>
            <a:off x="533520" y="9144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3 Types of Pass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acilitative 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diffusion with the help of transport protei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diffusion of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533520" y="1143000"/>
            <a:ext cx="8229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/>
  <dc:language>en-US</dc:language>
  <cp:lastModifiedBy>LEGION2</cp:lastModifiedBy>
  <dcterms:modified xsi:type="dcterms:W3CDTF">2016-01-11T12:57:4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